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346-69EC-4B95-9486-83C66BA7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649-0F86-4391-A98F-3A53125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488-BDD0-4B91-A9E6-12DB4269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9E7-B521-44A4-8946-378D9A3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EDD-A085-4A20-A374-D102A6E7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EA6-D229-4927-A18C-90FC25F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2ED-914A-46BF-B173-38697356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DEE-D860-4774-A661-2EFE8AF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44F-66F1-4298-8BDE-9B2FD71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E11-4837-4A97-9E97-303DF22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009-097F-4340-BAB7-E713834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3B-AFCB-4307-9A4B-6E05CC0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D93-F4E1-4D9C-B022-2E064B3600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"/>
          <p:cNvPicPr/>
          <p:nvPr/>
        </p:nvPicPr>
        <p:blipFill>
          <a:blip r:embed="rId1"/>
          <a:stretch/>
        </p:blipFill>
        <p:spPr>
          <a:xfrm>
            <a:off x="1384200" y="2136600"/>
            <a:ext cx="6959880" cy="448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3674520" y="69480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老　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44472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杨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90000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2072520" y="1465200"/>
            <a:ext cx="50083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老王》作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。作者记叙了自己从前同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交往的几个片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时正是“文化大革命”时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夫妇被认为是“反动学术权威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下放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干校”劳动锻炼。但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何歪风邪气对老王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丝毫影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照样尊重作者夫妇。因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老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交往深深地印刻在了作者的脑海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对角圆角矩形 5"/>
          <p:cNvSpPr/>
          <p:nvPr/>
        </p:nvSpPr>
        <p:spPr>
          <a:xfrm>
            <a:off x="395280" y="1557360"/>
            <a:ext cx="8353440" cy="4032360"/>
          </a:xfrm>
          <a:custGeom>
            <a:avLst/>
            <a:gdLst/>
            <a:ahLst/>
            <a:rect l="l" t="t" r="r" b="b"/>
            <a:pathLst>
              <a:path w="8352928" h="4032448">
                <a:moveTo>
                  <a:pt x="67208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360359"/>
                </a:lnTo>
                <a:cubicBezTo>
                  <a:pt x="8352928" y="3731543"/>
                  <a:pt x="8052024" y="4032447"/>
                  <a:pt x="7680840" y="4032447"/>
                </a:cubicBezTo>
                <a:lnTo>
                  <a:pt x="0" y="4032448"/>
                </a:lnTo>
                <a:lnTo>
                  <a:pt x="0" y="4032448"/>
                </a:lnTo>
                <a:lnTo>
                  <a:pt x="0" y="672088"/>
                </a:lnTo>
                <a:cubicBezTo>
                  <a:pt x="0" y="300904"/>
                  <a:pt x="300904" y="0"/>
                  <a:pt x="67208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RJ9.eps" descr="id:2147501279;FounderCES"/>
          <p:cNvPicPr/>
          <p:nvPr/>
        </p:nvPicPr>
        <p:blipFill>
          <a:blip r:embed="rId2"/>
          <a:stretch/>
        </p:blipFill>
        <p:spPr>
          <a:xfrm>
            <a:off x="611280" y="1413000"/>
            <a:ext cx="813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1564560" y="1435680"/>
            <a:ext cx="5982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本文写了老王的哪几个生活片段来表现他的“善”和“苦”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的“善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心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实厚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良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肯关心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需要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他做生意从不多收一分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仁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愿意尽义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少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感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恩必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死也要去谢谢好心人。作者笔下的老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穷苦卑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精神上没有受到任何污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极其纯朴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的“苦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放后靠一辆破旧的三轮车活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革”期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客的三轮车被取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生计就更加窘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能凑合着打发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孤苦伶仃地住在荒僻的小胡同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屋破破烂烂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眼睛又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一生凄凉艰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5"/>
          <p:cNvSpPr/>
          <p:nvPr/>
        </p:nvSpPr>
        <p:spPr>
          <a:xfrm>
            <a:off x="108000" y="1341360"/>
            <a:ext cx="8856720" cy="489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"/>
          <p:cNvSpPr/>
          <p:nvPr/>
        </p:nvSpPr>
        <p:spPr>
          <a:xfrm>
            <a:off x="611280" y="7650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539640" y="765000"/>
            <a:ext cx="216072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1187280" y="1289520"/>
            <a:ext cx="698508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作者一家对不幸的老王那么关心、爱护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是平等观念。作者认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是生而平等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人境遇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有了差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这不过是幸与不幸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的差别。所谓幸与不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天赋条件、成长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件、生理条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幸运者只有关爱不幸者的责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歧视不幸者的理由。有平等意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会平等对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感觉人家上门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请他坐坐喝口茶水”是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抱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5"/>
          <p:cNvSpPr/>
          <p:nvPr/>
        </p:nvSpPr>
        <p:spPr>
          <a:xfrm>
            <a:off x="1042920" y="1341360"/>
            <a:ext cx="7129440" cy="5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标注 6"/>
          <p:cNvSpPr/>
          <p:nvPr/>
        </p:nvSpPr>
        <p:spPr>
          <a:xfrm>
            <a:off x="971640" y="1989000"/>
            <a:ext cx="7200720" cy="3888000"/>
          </a:xfrm>
          <a:prstGeom prst="wedgeRoundRectCallout">
            <a:avLst>
              <a:gd name="adj1" fmla="val 13967"/>
              <a:gd name="adj2" fmla="val -5350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539640" y="2664360"/>
            <a:ext cx="813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次是人道主义精神。这种精神要求社会关心个人、同情个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尊重个人对社会做出的贡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护社会成员的基本权利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促进全体劳动者的全面发展。作者一家对老王怀有的就是这种精神。知道老王有夜盲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送给他鱼肝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是照顾老王的生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管老王总是很客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还是照原价付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三轮改为运货的平板三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坐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关心老王能否维持生活。只有对不幸者怀有一颗爱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能关心人、爱护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在生命最后的日子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身子僵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样子非常怕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心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同情和悲酸。老王死了好几年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每每想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感觉有愧于这个不幸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觉得在他生前对他关爱不够。所有这些都是人道主义精神的表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也正是全人类应该提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对角圆角矩形 5"/>
          <p:cNvSpPr/>
          <p:nvPr/>
        </p:nvSpPr>
        <p:spPr>
          <a:xfrm>
            <a:off x="250920" y="1557360"/>
            <a:ext cx="8569080" cy="4535640"/>
          </a:xfrm>
          <a:custGeom>
            <a:avLst/>
            <a:gdLst/>
            <a:ahLst/>
            <a:rect l="l" t="t" r="r" b="b"/>
            <a:pathLst>
              <a:path w="8568952" h="4536504">
                <a:moveTo>
                  <a:pt x="756099" y="0"/>
                </a:moveTo>
                <a:lnTo>
                  <a:pt x="8568952" y="0"/>
                </a:lnTo>
                <a:lnTo>
                  <a:pt x="8568952" y="0"/>
                </a:lnTo>
                <a:lnTo>
                  <a:pt x="8568952" y="3780404"/>
                </a:lnTo>
                <a:cubicBezTo>
                  <a:pt x="8568952" y="4197986"/>
                  <a:pt x="8230435" y="4536503"/>
                  <a:pt x="7812853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539640" y="70452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词语中加点的字注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伛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眼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取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惶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愧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塌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骷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滞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2340000" y="3789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"/>
          <p:cNvSpPr/>
          <p:nvPr/>
        </p:nvSpPr>
        <p:spPr>
          <a:xfrm>
            <a:off x="140652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y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5"/>
          <p:cNvSpPr/>
          <p:nvPr/>
        </p:nvSpPr>
        <p:spPr>
          <a:xfrm>
            <a:off x="3851280" y="191628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/>
          <p:cNvSpPr/>
          <p:nvPr/>
        </p:nvSpPr>
        <p:spPr>
          <a:xfrm>
            <a:off x="5947200" y="19162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1262880" y="24210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3720600" y="24922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z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925960" y="249228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1329840" y="2997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k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424680" y="2997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752480" y="3403800"/>
            <a:ext cx="458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出下列词语中的四个错别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按顺序改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话　肿涨　塌败　荒辟　边缘　失群落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欺负　奏合　嗓子　田螺　骧嵌　面如死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539640" y="51577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涨”改为“胀”。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辟”改为“僻”。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奏”改为“凑”。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4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骧”改为“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对角圆角矩形 14"/>
          <p:cNvSpPr/>
          <p:nvPr/>
        </p:nvSpPr>
        <p:spPr>
          <a:xfrm>
            <a:off x="395280" y="5084640"/>
            <a:ext cx="8424720" cy="1008360"/>
          </a:xfrm>
          <a:custGeom>
            <a:avLst/>
            <a:gdLst/>
            <a:ahLst/>
            <a:rect l="l" t="t" r="r" b="b"/>
            <a:pathLst>
              <a:path w="8424936" h="1008112">
                <a:moveTo>
                  <a:pt x="168022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840089"/>
                </a:lnTo>
                <a:cubicBezTo>
                  <a:pt x="8424936" y="932885"/>
                  <a:pt x="8349710" y="1008111"/>
                  <a:pt x="8256914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6"/>
          <p:cNvSpPr/>
          <p:nvPr/>
        </p:nvSpPr>
        <p:spPr>
          <a:xfrm>
            <a:off x="5508720" y="2276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7"/>
          <p:cNvSpPr/>
          <p:nvPr/>
        </p:nvSpPr>
        <p:spPr>
          <a:xfrm>
            <a:off x="3419640" y="2349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8"/>
          <p:cNvSpPr/>
          <p:nvPr/>
        </p:nvSpPr>
        <p:spPr>
          <a:xfrm>
            <a:off x="755640" y="2349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341964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20"/>
          <p:cNvSpPr/>
          <p:nvPr/>
        </p:nvSpPr>
        <p:spPr>
          <a:xfrm>
            <a:off x="521964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21"/>
          <p:cNvSpPr/>
          <p:nvPr/>
        </p:nvSpPr>
        <p:spPr>
          <a:xfrm>
            <a:off x="2771640" y="3429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22"/>
          <p:cNvSpPr/>
          <p:nvPr/>
        </p:nvSpPr>
        <p:spPr>
          <a:xfrm>
            <a:off x="75564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23"/>
          <p:cNvSpPr/>
          <p:nvPr/>
        </p:nvSpPr>
        <p:spPr>
          <a:xfrm>
            <a:off x="755640" y="2852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887840" y="1286640"/>
            <a:ext cx="5518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下列句子中“老实”一词的不同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人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老光棍大约年轻时不老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害了什么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瞎掉了一只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胡同口蹬三轮的我们大多熟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是其中最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1763640" y="28526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规规矩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惹事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忠厚诚信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形标注 4"/>
          <p:cNvSpPr/>
          <p:nvPr/>
        </p:nvSpPr>
        <p:spPr>
          <a:xfrm>
            <a:off x="1403280" y="2781360"/>
            <a:ext cx="4753080" cy="792000"/>
          </a:xfrm>
          <a:prstGeom prst="wedgeEllipseCallout">
            <a:avLst>
              <a:gd name="adj1" fmla="val 28893"/>
              <a:gd name="adj2" fmla="val -799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形标注 5"/>
          <p:cNvSpPr/>
          <p:nvPr/>
        </p:nvSpPr>
        <p:spPr>
          <a:xfrm>
            <a:off x="1908000" y="4869000"/>
            <a:ext cx="3527640" cy="720720"/>
          </a:xfrm>
          <a:prstGeom prst="wedgeEllipseCallout">
            <a:avLst>
              <a:gd name="adj1" fmla="val 35708"/>
              <a:gd name="adj2" fmla="val -112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6"/>
          <p:cNvSpPr/>
          <p:nvPr/>
        </p:nvSpPr>
        <p:spPr>
          <a:xfrm>
            <a:off x="601200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8"/>
          <p:cNvSpPr/>
          <p:nvPr/>
        </p:nvSpPr>
        <p:spPr>
          <a:xfrm>
            <a:off x="6372360" y="2133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9"/>
          <p:cNvSpPr/>
          <p:nvPr/>
        </p:nvSpPr>
        <p:spPr>
          <a:xfrm>
            <a:off x="755640" y="4724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0"/>
          <p:cNvSpPr/>
          <p:nvPr/>
        </p:nvSpPr>
        <p:spPr>
          <a:xfrm>
            <a:off x="8172360" y="4292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1662840" y="1108800"/>
            <a:ext cx="6370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下列各句的人物描写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哑着嗓子悄悄问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还有钱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简直像棺材里倒出来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像我想象里的僵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髅上绷着一层枯黄的干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上一棍就会散成一堆白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一手拿着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手攥着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滞笨地转过身子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7313040" y="184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言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971640" y="3789360"/>
            <a:ext cx="19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外貌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1266840" y="501336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作描写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1856160" y="1428840"/>
            <a:ext cx="5481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你对课文的理解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文章以“我”和老王之间的交往为线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叙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与老王之间的几件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出了老王的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借老王的命运含蓄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出了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问题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2350080" y="407664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　关怀不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7742520" y="2708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5"/>
          <p:cNvSpPr/>
          <p:nvPr/>
        </p:nvSpPr>
        <p:spPr>
          <a:xfrm>
            <a:off x="16941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324000" y="62172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材料探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708560" y="959760"/>
            <a:ext cx="59806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”是用心去帮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尊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。请阅读下面的材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要谈谈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爱与尊重”的理解和感悟。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网北京频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电　北京首钢男篮著名球员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以爱心大使的身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加了由红星商业举办的公益活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召人们给予自闭症儿童更多的帮助。公益活动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孩子们为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里进行了肖像绘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将其送给了这位充满正能量的外国叔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马布里除了留下一幅作为纪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其余作品全部签上名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闭症孩子筹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他们的健康成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30.jpg" descr="id:2147501307;FounderCES"/>
          <p:cNvPicPr/>
          <p:nvPr/>
        </p:nvPicPr>
        <p:blipFill>
          <a:blip r:embed="rId2"/>
          <a:stretch/>
        </p:blipFill>
        <p:spPr>
          <a:xfrm>
            <a:off x="5219640" y="1125360"/>
            <a:ext cx="3313080" cy="1511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400400" y="5879880"/>
            <a:ext cx="50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关爱与尊重特殊群体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给他们以心灵的温暖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仅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是某个人的义务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是全社会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6"/>
          <p:cNvSpPr/>
          <p:nvPr/>
        </p:nvSpPr>
        <p:spPr>
          <a:xfrm>
            <a:off x="179280" y="5950080"/>
            <a:ext cx="756144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1095480" y="1465200"/>
            <a:ext cx="6615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惶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肿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荒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塌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取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攥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滞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侮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 愧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田螺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骷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捉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131480" y="2276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ē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783960" y="22050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37720" y="2205000"/>
            <a:ext cx="12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627920" y="285264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3906720" y="2852640"/>
            <a:ext cx="5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524280" y="285264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622160" y="350028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857400" y="35002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6446880" y="350028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w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262160" y="41497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3866760" y="414972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6088320" y="41497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1916640" y="479736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3857400" y="47973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ūl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6387120" y="4797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3"/>
          <p:cNvSpPr/>
          <p:nvPr/>
        </p:nvSpPr>
        <p:spPr>
          <a:xfrm>
            <a:off x="826920" y="2708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4"/>
          <p:cNvSpPr/>
          <p:nvPr/>
        </p:nvSpPr>
        <p:spPr>
          <a:xfrm>
            <a:off x="320364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5"/>
          <p:cNvSpPr/>
          <p:nvPr/>
        </p:nvSpPr>
        <p:spPr>
          <a:xfrm>
            <a:off x="3203640" y="335772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7"/>
          <p:cNvSpPr/>
          <p:nvPr/>
        </p:nvSpPr>
        <p:spPr>
          <a:xfrm>
            <a:off x="6012000" y="2708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8"/>
          <p:cNvSpPr/>
          <p:nvPr/>
        </p:nvSpPr>
        <p:spPr>
          <a:xfrm>
            <a:off x="6156360" y="3357720"/>
            <a:ext cx="14436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9"/>
          <p:cNvSpPr/>
          <p:nvPr/>
        </p:nvSpPr>
        <p:spPr>
          <a:xfrm>
            <a:off x="5796000" y="4005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0"/>
          <p:cNvSpPr/>
          <p:nvPr/>
        </p:nvSpPr>
        <p:spPr>
          <a:xfrm>
            <a:off x="5796000" y="4653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1"/>
          <p:cNvSpPr/>
          <p:nvPr/>
        </p:nvSpPr>
        <p:spPr>
          <a:xfrm>
            <a:off x="1187280" y="3357720"/>
            <a:ext cx="1447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900000" y="4005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3"/>
          <p:cNvSpPr/>
          <p:nvPr/>
        </p:nvSpPr>
        <p:spPr>
          <a:xfrm>
            <a:off x="3492360" y="4653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4"/>
          <p:cNvSpPr/>
          <p:nvPr/>
        </p:nvSpPr>
        <p:spPr>
          <a:xfrm>
            <a:off x="3203640" y="4005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5"/>
          <p:cNvSpPr/>
          <p:nvPr/>
        </p:nvSpPr>
        <p:spPr>
          <a:xfrm>
            <a:off x="5724360" y="522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6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125892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8"/>
          <p:cNvSpPr/>
          <p:nvPr/>
        </p:nvSpPr>
        <p:spPr>
          <a:xfrm>
            <a:off x="3564000" y="5300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39"/>
          <p:cNvSpPr/>
          <p:nvPr/>
        </p:nvSpPr>
        <p:spPr>
          <a:xfrm>
            <a:off x="324000" y="1557360"/>
            <a:ext cx="7993080" cy="424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"/>
          <p:cNvSpPr/>
          <p:nvPr/>
        </p:nvSpPr>
        <p:spPr>
          <a:xfrm>
            <a:off x="1771200" y="1361880"/>
            <a:ext cx="57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寸长　　葛　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                              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庆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A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这是个身着工作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身油漆和泥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脸灰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约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他隔着车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我弯弯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腼腆地笑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我递了根香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③看我接了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大喜过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慌忙从兜里摸出打火机帮我点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大嘴一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是几天来第一个接俺烟的呢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④我一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点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⑤他好像瞧出了我的心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憨憨一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这烟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们城里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瞧不上眼。您是第一个接俺烟的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激动哩。您绝对是一个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得起俺们乡下人的好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"/>
          <p:cNvSpPr/>
          <p:nvPr/>
        </p:nvSpPr>
        <p:spPr>
          <a:xfrm>
            <a:off x="1851480" y="1185120"/>
            <a:ext cx="592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事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笑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这个中年男子的“油嘴滑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⑦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这样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子搓搓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住地点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就是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坐您的车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⑧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要到哪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轻轻皱了皱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我小气不让他搭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他那一身的油漆和泥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在是让我心有芥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⑨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不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把头摇得像拨浪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哪儿也不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在上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一会儿就行。今儿不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天坐一回就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今儿这个时间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那布满血丝的大眼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充满着乞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bt6b.jpg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4319640" cy="792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2118600" y="1272600"/>
            <a:ext cx="523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犹豫了一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点了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话音刚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没来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问他我心中的疑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就一连向我说了几个谢谢便离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走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特意向我的前车牌望了一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2853360" y="2495520"/>
            <a:ext cx="34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准时到了学校门口。看我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一脸兴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轻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了副驾驶座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我聊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9640" y="3429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没聊五分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学的孩子们便冲出了校门。他透过玻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紧张地看着人流。过了一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飞快地推开车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在车旁大喊着。不一会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小男孩跑到他的面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让小男孩喊了我一声“叔叔好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还介绍说我是他在城里刚认识的朋友。他递了根香烟给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带着孩子匆匆离开了。临走的时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望向我的眼神里充满了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5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287280" cy="3492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79360" cy="4222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8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2887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9" name="矩形 2"/>
          <p:cNvSpPr/>
          <p:nvPr/>
        </p:nvSpPr>
        <p:spPr>
          <a:xfrm>
            <a:off x="1042920" y="981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实在不明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为什么只坐这么一小会儿。直到三天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学校门口又遇上了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才告诉了我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900000" y="20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孩子刚进城读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农村和城里的生活习惯存在很大的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一些同学很瞧不起他的孩子。孩子的心理因此出现了阴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971640" y="41716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俺明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多数城里人也像您一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俺们如亲兄弟般的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是孩子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暂时还不能理解。”他笑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上次坐您的车看着孩子向我跑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我就告诉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和我是顺路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免费载着我一起来学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5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77920" cy="3506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6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277920" cy="350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8" descr=""/>
          <p:cNvPicPr/>
          <p:nvPr/>
        </p:nvPicPr>
        <p:blipFill>
          <a:blip r:embed="rId4"/>
          <a:stretch/>
        </p:blipFill>
        <p:spPr>
          <a:xfrm>
            <a:off x="1042920" y="3789360"/>
            <a:ext cx="2793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"/>
          <p:cNvSpPr/>
          <p:nvPr/>
        </p:nvSpPr>
        <p:spPr>
          <a:xfrm>
            <a:off x="2046240" y="1102320"/>
            <a:ext cx="541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搓着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憨憨地补充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的家长给自己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的温暖那么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张开双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画了一段很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又接着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不中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俺只能给孩子这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的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用手指比画了一个大约一寸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2062080" y="4083840"/>
            <a:ext cx="5235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寸长的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形象的比画瞬间击中了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灵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深深地震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它的朴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被它的深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008240" y="5590440"/>
            <a:ext cx="34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自葛闪新浪网博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删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58920" cy="567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6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2775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2055240" y="1344960"/>
            <a:ext cx="50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的“他”为孩子做了一件什么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用简洁的语言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84360" y="2852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消除孩子的心理阴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请求坐一次“我”的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孩子进行心理疏导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题考查对故事情节的概括。本文属于写人叙事的文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概括时可以用这样的方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在什么情况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什么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怎样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标注 4"/>
          <p:cNvSpPr/>
          <p:nvPr/>
        </p:nvSpPr>
        <p:spPr>
          <a:xfrm>
            <a:off x="539640" y="2924280"/>
            <a:ext cx="8353440" cy="2449440"/>
          </a:xfrm>
          <a:prstGeom prst="wedgeRoundRectCallout">
            <a:avLst>
              <a:gd name="adj1" fmla="val 1208"/>
              <a:gd name="adj2" fmla="val -5950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对角圆角矩形 5"/>
          <p:cNvSpPr/>
          <p:nvPr/>
        </p:nvSpPr>
        <p:spPr>
          <a:xfrm>
            <a:off x="539640" y="1413000"/>
            <a:ext cx="8209080" cy="1008000"/>
          </a:xfrm>
          <a:custGeom>
            <a:avLst/>
            <a:gdLst/>
            <a:ahLst/>
            <a:rect l="l" t="t" r="r" b="b"/>
            <a:pathLst>
              <a:path w="8208912" h="1008112">
                <a:moveTo>
                  <a:pt x="168022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840089"/>
                </a:lnTo>
                <a:cubicBezTo>
                  <a:pt x="8208912" y="932885"/>
                  <a:pt x="8133686" y="1008111"/>
                  <a:pt x="8040890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7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1881360" y="1164600"/>
            <a:ext cx="5176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第①段使用了人物描写的哪种方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684360" y="2852640"/>
            <a:ext cx="770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外貌描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肖像描写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作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(1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交代了主人公的身份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暗示了他工作的艰辛。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暗示了“几天来”他被拒绝的原因。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4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后面“我”的“皱眉”“犹豫”做了铺垫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标注 4"/>
          <p:cNvSpPr/>
          <p:nvPr/>
        </p:nvSpPr>
        <p:spPr>
          <a:xfrm>
            <a:off x="539640" y="2924280"/>
            <a:ext cx="8064720" cy="2808360"/>
          </a:xfrm>
          <a:prstGeom prst="wedgeRoundRectCallout">
            <a:avLst>
              <a:gd name="adj1" fmla="val -4958"/>
              <a:gd name="adj2" fmla="val -5688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对角圆角矩形 5"/>
          <p:cNvSpPr/>
          <p:nvPr/>
        </p:nvSpPr>
        <p:spPr>
          <a:xfrm>
            <a:off x="539640" y="1197000"/>
            <a:ext cx="8064720" cy="1368360"/>
          </a:xfrm>
          <a:custGeom>
            <a:avLst/>
            <a:gdLst/>
            <a:ahLst/>
            <a:rect l="l" t="t" r="r" b="b"/>
            <a:pathLst>
              <a:path w="8064896" h="1368152">
                <a:moveTo>
                  <a:pt x="228029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1140122"/>
                </a:lnTo>
                <a:cubicBezTo>
                  <a:pt x="8064896" y="1266059"/>
                  <a:pt x="7962804" y="1368151"/>
                  <a:pt x="7836867" y="1368151"/>
                </a:cubicBezTo>
                <a:lnTo>
                  <a:pt x="0" y="1368152"/>
                </a:lnTo>
                <a:lnTo>
                  <a:pt x="0" y="1368152"/>
                </a:lnTo>
                <a:lnTo>
                  <a:pt x="0" y="228029"/>
                </a:lnTo>
                <a:cubicBezTo>
                  <a:pt x="0" y="102092"/>
                  <a:pt x="102092" y="0"/>
                  <a:pt x="22802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2065320" y="983880"/>
            <a:ext cx="5533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系上下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说下面句子中加点词语的表达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是几天来第一个接俺烟的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3"/>
          <p:cNvSpPr/>
          <p:nvPr/>
        </p:nvSpPr>
        <p:spPr>
          <a:xfrm>
            <a:off x="539640" y="2349360"/>
            <a:ext cx="835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几天来”说明这位父亲为此努力了好些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现出他的艰辛努力和坚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及父爱的执着深沉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对加点词语的理解。词语的含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般有以下几种类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基本义、引申义、比喻义、语境义等。在阅读时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解释的词语含义通常为语境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解答时须联系语境作答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对角圆角矩形 4"/>
          <p:cNvSpPr/>
          <p:nvPr/>
        </p:nvSpPr>
        <p:spPr>
          <a:xfrm>
            <a:off x="395280" y="981000"/>
            <a:ext cx="8497800" cy="5184720"/>
          </a:xfrm>
          <a:custGeom>
            <a:avLst/>
            <a:gdLst/>
            <a:ahLst/>
            <a:rect l="l" t="t" r="r" b="b"/>
            <a:pathLst>
              <a:path w="8496944" h="5184576">
                <a:moveTo>
                  <a:pt x="864113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320462"/>
                </a:lnTo>
                <a:cubicBezTo>
                  <a:pt x="8496944" y="4797698"/>
                  <a:pt x="8110067" y="5184575"/>
                  <a:pt x="7632831" y="5184575"/>
                </a:cubicBezTo>
                <a:lnTo>
                  <a:pt x="0" y="5184576"/>
                </a:lnTo>
                <a:lnTo>
                  <a:pt x="0" y="5184576"/>
                </a:lnTo>
                <a:lnTo>
                  <a:pt x="0" y="864113"/>
                </a:lnTo>
                <a:cubicBezTo>
                  <a:pt x="0" y="386877"/>
                  <a:pt x="386877" y="0"/>
                  <a:pt x="86411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395280" y="1086480"/>
            <a:ext cx="842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文情节安排上最大的特点是设置悬念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试举一例并说说其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324000" y="1557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悬念举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②段中他为什么无缘无故给“我”香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为什么对“我”油嘴滑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为什么要坐“我”的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只坐一会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他的孩子出来他就“飞快地推开车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在车旁大喊着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悬念激发读者的阅读兴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情节有波澜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谓悬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是利用人们对故事发展和人物命运前景的关切和期待心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悬而未决的矛盾现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让读者在悬念的发生、发展、加强、解除过程中产生猜疑、紧张、渴望、揣测、担忧、期待、欢快等种种复杂的心理感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而引起人们的关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急切期待解决的后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便吸引和集中观众的注意力与观赏兴趣。它的作用一般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情节环环相扣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文章情节曲折生动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发读者的阅读兴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对角圆角矩形 5"/>
          <p:cNvSpPr/>
          <p:nvPr/>
        </p:nvSpPr>
        <p:spPr>
          <a:xfrm>
            <a:off x="179280" y="1052640"/>
            <a:ext cx="8713800" cy="4680000"/>
          </a:xfrm>
          <a:custGeom>
            <a:avLst/>
            <a:gdLst/>
            <a:ahLst/>
            <a:rect l="l" t="t" r="r" b="b"/>
            <a:pathLst>
              <a:path w="8712968" h="4680520">
                <a:moveTo>
                  <a:pt x="780102" y="0"/>
                </a:moveTo>
                <a:lnTo>
                  <a:pt x="8712968" y="0"/>
                </a:lnTo>
                <a:lnTo>
                  <a:pt x="8712968" y="0"/>
                </a:lnTo>
                <a:lnTo>
                  <a:pt x="8712968" y="3900417"/>
                </a:lnTo>
                <a:cubicBezTo>
                  <a:pt x="8712968" y="4331255"/>
                  <a:pt x="8363704" y="4680519"/>
                  <a:pt x="7932866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3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2789280" y="959400"/>
            <a:ext cx="368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.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寸长的暖”深深地震撼了“我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结合全文说说你对“一寸长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暖”的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681920" y="1623240"/>
            <a:ext cx="5565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父亲认为自己为消除孩子的心理阴影而做的事情是微不足道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的爱是很少的。但是他想出了办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惜委屈自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消除孩子的心理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样的父爱是深沉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伟大的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题考查对文章重点语句的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句子的含意要注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根据句中关键词的基本义、引伸义和比喻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揣摩其在文中的含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分析句子的结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子较长且结构复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握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关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明确句中指代性词语指代的内容。④要分析句子在文中的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其是总领句、总结句、过渡句还是补充说明性质的语句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推测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的含意。⑤确定这句话表达的作者的观点或态度。本文表现的主题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爱的伟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这位父亲给予孩子的爱是微不足道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为了这微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的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消除孩子心理的阴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坚持执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现了父爱的伟大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对角圆角矩形 4"/>
          <p:cNvSpPr/>
          <p:nvPr/>
        </p:nvSpPr>
        <p:spPr>
          <a:xfrm>
            <a:off x="250920" y="981000"/>
            <a:ext cx="8497800" cy="5256360"/>
          </a:xfrm>
          <a:custGeom>
            <a:avLst/>
            <a:gdLst/>
            <a:ahLst/>
            <a:rect l="l" t="t" r="r" b="b"/>
            <a:pathLst>
              <a:path w="8496944" h="5256584">
                <a:moveTo>
                  <a:pt x="876114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4380469"/>
                </a:lnTo>
                <a:cubicBezTo>
                  <a:pt x="8496944" y="4864333"/>
                  <a:pt x="8104694" y="5256583"/>
                  <a:pt x="7620830" y="5256583"/>
                </a:cubicBezTo>
                <a:lnTo>
                  <a:pt x="0" y="5256584"/>
                </a:lnTo>
                <a:lnTo>
                  <a:pt x="0" y="5256584"/>
                </a:lnTo>
                <a:lnTo>
                  <a:pt x="0" y="876114"/>
                </a:lnTo>
                <a:cubicBezTo>
                  <a:pt x="0" y="392250"/>
                  <a:pt x="392250" y="0"/>
                  <a:pt x="8761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88992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830880" y="26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35888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4284720" y="4653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1904400" y="2205000"/>
            <a:ext cx="1863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哑然失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哑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330160" y="1989000"/>
            <a:ext cx="22168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强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勉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倔强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5298480" y="4149720"/>
            <a:ext cx="1815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埋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埋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2102760" y="3716280"/>
            <a:ext cx="2011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ē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绷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ě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绷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èng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崩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900000" y="4365720"/>
            <a:ext cx="2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大括号 19"/>
          <p:cNvSpPr/>
          <p:nvPr/>
        </p:nvSpPr>
        <p:spPr>
          <a:xfrm>
            <a:off x="1547640" y="249228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936720"/>
              <a:gd name="textAreaBottom" fmla="*/ 931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左大括号 20"/>
          <p:cNvSpPr/>
          <p:nvPr/>
        </p:nvSpPr>
        <p:spPr>
          <a:xfrm>
            <a:off x="5003640" y="443700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936720"/>
              <a:gd name="textAreaBottom" fmla="*/ 931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大括号 22"/>
          <p:cNvSpPr/>
          <p:nvPr/>
        </p:nvSpPr>
        <p:spPr>
          <a:xfrm>
            <a:off x="4859280" y="242100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400 h 1295280"/>
              <a:gd name="textAreaBottom" fmla="*/ 12898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23"/>
          <p:cNvSpPr/>
          <p:nvPr/>
        </p:nvSpPr>
        <p:spPr>
          <a:xfrm>
            <a:off x="1547640" y="4076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297080"/>
              <a:gd name="textAreaBottom" fmla="*/ 129168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4"/>
          <p:cNvSpPr/>
          <p:nvPr/>
        </p:nvSpPr>
        <p:spPr>
          <a:xfrm>
            <a:off x="395280" y="1484280"/>
            <a:ext cx="8209080" cy="439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C:\Users\Administrator\Desktop\花\QQ截图20160316130608.png"/>
          <p:cNvPicPr/>
          <p:nvPr/>
        </p:nvPicPr>
        <p:blipFill>
          <a:blip r:embed="rId2"/>
          <a:stretch/>
        </p:blipFill>
        <p:spPr>
          <a:xfrm>
            <a:off x="7451640" y="4149720"/>
            <a:ext cx="14004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bt6.jpg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395280" y="1665720"/>
            <a:ext cx="828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作者对老王的外貌描写用词精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致入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人印象至深。如“开门看见老王直僵僵地镶嵌在门框里”“他简直像棺材里倒出来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像我想象里的僵尸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地揭示出老王已经病入膏肓的样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暗示了老王的结局。请你认真观察一个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精妙的词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致入微地描写这个人的肖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人物某个方面的特点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6"/>
          <p:cNvSpPr/>
          <p:nvPr/>
        </p:nvSpPr>
        <p:spPr>
          <a:xfrm>
            <a:off x="468360" y="400536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门开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走进来一位年轻的邮递员。只见他衣服湿透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裤腿卷得高高的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膝盖到脚全身沾满了泥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好像刚从泥地中爬起来似的。他手里捧着一包用油布包着的邮件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顾不上抹脸上的雨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屋里的人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儿童时代》来啦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对角圆角矩形 8"/>
          <p:cNvSpPr/>
          <p:nvPr/>
        </p:nvSpPr>
        <p:spPr>
          <a:xfrm>
            <a:off x="179280" y="1125360"/>
            <a:ext cx="8640720" cy="4751640"/>
          </a:xfrm>
          <a:custGeom>
            <a:avLst/>
            <a:gdLst/>
            <a:ahLst/>
            <a:rect l="l" t="t" r="r" b="b"/>
            <a:pathLst>
              <a:path w="8640960" h="4752528">
                <a:moveTo>
                  <a:pt x="792103" y="0"/>
                </a:moveTo>
                <a:lnTo>
                  <a:pt x="8640960" y="0"/>
                </a:lnTo>
                <a:lnTo>
                  <a:pt x="8640960" y="0"/>
                </a:lnTo>
                <a:lnTo>
                  <a:pt x="8640960" y="3960424"/>
                </a:lnTo>
                <a:cubicBezTo>
                  <a:pt x="8640960" y="4397890"/>
                  <a:pt x="8286323" y="4752527"/>
                  <a:pt x="7848857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bt6b.jpg" descr=""/>
          <p:cNvPicPr/>
          <p:nvPr/>
        </p:nvPicPr>
        <p:blipFill>
          <a:blip r:embed="rId1"/>
          <a:stretch/>
        </p:blipFill>
        <p:spPr>
          <a:xfrm>
            <a:off x="2482920" y="189000"/>
            <a:ext cx="4321080" cy="71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250920" y="1052640"/>
          <a:ext cx="8569080" cy="5400720"/>
        </p:xfrm>
        <a:graphic>
          <a:graphicData uri="http://schemas.openxmlformats.org/drawingml/2006/table">
            <a:tbl>
              <a:tblPr/>
              <a:tblGrid>
                <a:gridCol w="761760"/>
                <a:gridCol w="7807320"/>
              </a:tblGrid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近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同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义词的辨析与运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4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矩形 4"/>
          <p:cNvSpPr/>
          <p:nvPr/>
        </p:nvSpPr>
        <p:spPr>
          <a:xfrm>
            <a:off x="971640" y="1628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义词就是意义相同或相近的词。近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义词一般可以从词义、色彩、用法三方面加以辨析。辨析时结合实际语境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出“共性”与“个性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“个性”与语境相配。这也是中考试题中的常考题型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2371320" y="2439000"/>
            <a:ext cx="5199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辨析近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义词可从以下几方面来考虑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词义的轻重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请求”和“恳求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者是一般的要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尊重的意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者是恳切的要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有诚恳和迫切的意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见“恳求”的义比“请求”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范围的大小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时代”和“时期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者指一个较长的时期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指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范围大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者是指一段时间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指的时间范围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搭配的习惯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坚定”和“坚强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者常和“立场、方向”等词语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者常和“性格、意志”等词语配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情的褒贬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顽强”与“顽固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者表示赞许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者则表示憎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具体与概括的不同进行辨析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衣服”与“衬衫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服”是概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的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所有衣服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“衬衫”是具体的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指长袖衬衫或短袖衬衫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式衬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女式衬衫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普通话和方言来辨别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“讨饭”与“乞丐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是口头语与书面语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爸爸”与“父亲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是新词与旧词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“薪水”与“工资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是外来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本民族词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“盐”和“氯化钠”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是常用语和专门术语。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bt6b.jpg" descr=""/>
          <p:cNvPicPr/>
          <p:nvPr/>
        </p:nvPicPr>
        <p:blipFill>
          <a:blip r:embed="rId1"/>
          <a:stretch/>
        </p:blipFill>
        <p:spPr>
          <a:xfrm>
            <a:off x="248292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"/>
          <p:cNvSpPr/>
          <p:nvPr/>
        </p:nvSpPr>
        <p:spPr>
          <a:xfrm>
            <a:off x="1879560" y="1218960"/>
            <a:ext cx="5632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天津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次填入下列句子横线处的词语最恰当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简单、宁静生活的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意追逐物质层面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在精神的高地兀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雅。他们选择简单、宁静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远避尘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远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他们不愿在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面前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愿低调平和行事。他们的生活是单调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单调得干净、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粹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奢华　喧闹　发扬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繁华　喧嚣　发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繁华　喧闹　张扬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奢华　喧嚣　张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识记近义词的能力以及常用词语辨析的能力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奢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意为奢侈豪华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用来形容有钱人的生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也用来形容爱慕虚荣的人所渴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经常用作贬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繁华”意为繁荣热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用来形容某种场面。这里强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物质层面的对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选“奢华”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喧闹”意为喧哗、吵闹、声音非常大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喧嚣”意为吵闹、不清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与“尘世”相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这里选“喧嚣”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发扬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意为发展、提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面须搭配表示积极含义的词语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优良作风、传统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扬”意为宣扬、声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隐秘的或不必让众人知道的事声张出去。有时含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贬义。这里的文意是说“这类人”不愿在人前过于高调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选“张扬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8327160" y="1197000"/>
            <a:ext cx="40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4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7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0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2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6" dur="2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9" dur="2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2" dur="2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5" dur="2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8" dur="2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1" dur="20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4" dur="20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7" dur="20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0" dur="2000"/>
                                        <p:tgtEl>
                                          <p:spTgt spid="2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3" dur="2000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6" dur="2000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t46.jpg" descr=""/>
          <p:cNvPicPr/>
          <p:nvPr/>
        </p:nvPicPr>
        <p:blipFill>
          <a:blip r:embed="rId1"/>
          <a:stretch/>
        </p:blipFill>
        <p:spPr>
          <a:xfrm>
            <a:off x="6083280" y="189000"/>
            <a:ext cx="2448000" cy="503280"/>
          </a:xfrm>
          <a:prstGeom prst="rect">
            <a:avLst/>
          </a:prstGeom>
          <a:ln w="0">
            <a:noFill/>
          </a:ln>
        </p:spPr>
      </p:pic>
      <p:pic>
        <p:nvPicPr>
          <p:cNvPr id="285" name="bt6b.jpg" descr=""/>
          <p:cNvPicPr/>
          <p:nvPr/>
        </p:nvPicPr>
        <p:blipFill>
          <a:blip r:embed="rId2"/>
          <a:stretch/>
        </p:blipFill>
        <p:spPr>
          <a:xfrm>
            <a:off x="1474920" y="189000"/>
            <a:ext cx="4321080" cy="603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"/>
          <p:cNvSpPr/>
          <p:nvPr/>
        </p:nvSpPr>
        <p:spPr>
          <a:xfrm>
            <a:off x="1326600" y="757800"/>
            <a:ext cx="635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营口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次填入下面横线处的词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恰当的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迎来首个国家公祭日。为纪念曾经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的重大民族灾难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性国家公祭日的做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历史记忆的传承、判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有基于现实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忘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苦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是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仇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要使大国公民具备应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价值观和与国际社会相处的尊严方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实实在在的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捍卫民族尊严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梦动力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　考证　培养　会聚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　考量　培植　会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　考量　培养　凝聚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　考证　培植　凝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611720" y="1413000"/>
            <a:ext cx="3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Ｃ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89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2397600" y="930600"/>
            <a:ext cx="477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题考查的是词语辨析的能力。第一组是对“设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“设立”的区别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定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指拟定某种规则。而“设立”则是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建立某个机构或者如题目中的特殊的日子。第二组则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考证”与“考量”的区别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考证”指根据资料来考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证实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“考量”则带有思考的意思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以不加宾语。第三组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”和“培植”的区别。“培养”是按照一定目的长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育和训练使成长。“培植”则是扶植势力使壮大。第四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是“会聚”和“凝聚”的区别。“会聚”是聚集的意思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凝聚”是“积聚”的意思。前者宾语是有形的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而后者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语是无形的精神力量。综合考虑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应该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C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619280" y="2060640"/>
            <a:ext cx="2592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缔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ì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取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í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蹄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658120" y="2060640"/>
            <a:ext cx="1843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ì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荒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ì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开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1836720" y="3645000"/>
            <a:ext cx="1947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妪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ù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老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ǔ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伛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5814000" y="3573360"/>
            <a:ext cx="188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塌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竹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03284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12"/>
          <p:cNvSpPr/>
          <p:nvPr/>
        </p:nvSpPr>
        <p:spPr>
          <a:xfrm>
            <a:off x="1476360" y="234936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935280"/>
              <a:gd name="textAreaBottom" fmla="*/ 92988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13"/>
          <p:cNvSpPr/>
          <p:nvPr/>
        </p:nvSpPr>
        <p:spPr>
          <a:xfrm>
            <a:off x="1403280" y="386064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936720"/>
              <a:gd name="textAreaBottom" fmla="*/ 931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4"/>
          <p:cNvSpPr/>
          <p:nvPr/>
        </p:nvSpPr>
        <p:spPr>
          <a:xfrm>
            <a:off x="5148360" y="3789360"/>
            <a:ext cx="215640" cy="934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934920"/>
              <a:gd name="textAreaBottom" fmla="*/ 92952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5"/>
          <p:cNvSpPr/>
          <p:nvPr/>
        </p:nvSpPr>
        <p:spPr>
          <a:xfrm>
            <a:off x="5148360" y="234936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935280"/>
              <a:gd name="textAreaBottom" fmla="*/ 92988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5400" y="10800"/>
                  <a:pt x="0" y="10800"/>
                </a:cubicBezTo>
                <a:cubicBezTo>
                  <a:pt x="54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6"/>
          <p:cNvSpPr/>
          <p:nvPr/>
        </p:nvSpPr>
        <p:spPr>
          <a:xfrm>
            <a:off x="539640" y="1557360"/>
            <a:ext cx="7848720" cy="395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775080" y="1505520"/>
            <a:ext cx="7200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镶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落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愧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3754440" y="765000"/>
            <a:ext cx="184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582560" y="148428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中指将分散的人集合在一起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之成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整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2789640" y="2708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降低标准、身份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2469960" y="321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沿边的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1619280" y="3789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一物体嵌入另一物体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692360" y="4365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或动物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离开集体或不合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1619280" y="486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比喻人或事物跟不上时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152440" y="551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惭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5"/>
          <p:cNvSpPr/>
          <p:nvPr/>
        </p:nvSpPr>
        <p:spPr>
          <a:xfrm>
            <a:off x="324000" y="1484280"/>
            <a:ext cx="7920000" cy="46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C:\Users\Administrator\Desktop\花\3.gif"/>
          <p:cNvPicPr/>
          <p:nvPr/>
        </p:nvPicPr>
        <p:blipFill>
          <a:blip r:embed="rId2"/>
          <a:stretch/>
        </p:blipFill>
        <p:spPr>
          <a:xfrm>
            <a:off x="6477120" y="2924280"/>
            <a:ext cx="2666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1013400" y="1579320"/>
            <a:ext cx="886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惶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荒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取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扶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捉摸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2899800" y="162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验和领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2720520" y="2349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惊慌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2720520" y="29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荒凉偏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1979640" y="3645000"/>
            <a:ext cx="29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明令取消或禁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1"/>
          <p:cNvSpPr/>
          <p:nvPr/>
        </p:nvSpPr>
        <p:spPr>
          <a:xfrm>
            <a:off x="2541240" y="422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愉快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360520" y="486900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着病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做某件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1908000" y="5373720"/>
            <a:ext cx="2082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猜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预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4"/>
          <p:cNvSpPr/>
          <p:nvPr/>
        </p:nvSpPr>
        <p:spPr>
          <a:xfrm>
            <a:off x="611280" y="1484280"/>
            <a:ext cx="7489800" cy="46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C:\Users\Administrator\Desktop\花\4.gif"/>
          <p:cNvPicPr/>
          <p:nvPr/>
        </p:nvPicPr>
        <p:blipFill>
          <a:blip r:embed="rId2"/>
          <a:stretch/>
        </p:blipFill>
        <p:spPr>
          <a:xfrm>
            <a:off x="6156360" y="3645000"/>
            <a:ext cx="25416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1777680" y="1614240"/>
            <a:ext cx="3988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杨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名杨季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钟书之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祖籍江苏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锡。作家、戏剧家、翻译家。擅长于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著作、戏剧等。著有剧本《称心如意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弄真成假》《风絮》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了《一九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年以来英国散文作品》、西班牙著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浪汉小说《小癞子》、法国勒萨日的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小说《吉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拉斯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对角圆角矩形 5"/>
          <p:cNvSpPr/>
          <p:nvPr/>
        </p:nvSpPr>
        <p:spPr>
          <a:xfrm>
            <a:off x="539640" y="1557360"/>
            <a:ext cx="7345440" cy="4175280"/>
          </a:xfrm>
          <a:custGeom>
            <a:avLst/>
            <a:gdLst/>
            <a:ahLst/>
            <a:rect l="l" t="t" r="r" b="b"/>
            <a:pathLst>
              <a:path w="7344816" h="4176464">
                <a:moveTo>
                  <a:pt x="696091" y="0"/>
                </a:moveTo>
                <a:lnTo>
                  <a:pt x="7344816" y="0"/>
                </a:lnTo>
                <a:lnTo>
                  <a:pt x="7344816" y="0"/>
                </a:lnTo>
                <a:lnTo>
                  <a:pt x="7344816" y="3480372"/>
                </a:lnTo>
                <a:cubicBezTo>
                  <a:pt x="7344816" y="3864812"/>
                  <a:pt x="7033165" y="4176463"/>
                  <a:pt x="6648725" y="4176463"/>
                </a:cubicBezTo>
                <a:lnTo>
                  <a:pt x="0" y="4176464"/>
                </a:lnTo>
                <a:lnTo>
                  <a:pt x="0" y="4176464"/>
                </a:lnTo>
                <a:lnTo>
                  <a:pt x="0" y="696091"/>
                </a:lnTo>
                <a:cubicBezTo>
                  <a:pt x="0" y="311651"/>
                  <a:pt x="311651" y="0"/>
                  <a:pt x="69609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27.jpg" descr="id:2147501189;FounderCES"/>
          <p:cNvPicPr/>
          <p:nvPr/>
        </p:nvPicPr>
        <p:blipFill>
          <a:blip r:embed="rId2"/>
          <a:stretch/>
        </p:blipFill>
        <p:spPr>
          <a:xfrm>
            <a:off x="658800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2234880" y="1606680"/>
            <a:ext cx="4622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“老王”点明了本文的主人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一辈子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困苦。作者通过写“老王”工作的几个片段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社会底层劳动者的优良品质和生存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王”这一最普通不过的称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恰是对老王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一生的真实写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对角圆角矩形 5"/>
          <p:cNvSpPr/>
          <p:nvPr/>
        </p:nvSpPr>
        <p:spPr>
          <a:xfrm>
            <a:off x="539640" y="1484280"/>
            <a:ext cx="8136000" cy="3673440"/>
          </a:xfrm>
          <a:custGeom>
            <a:avLst/>
            <a:gdLst/>
            <a:ahLst/>
            <a:rect l="l" t="t" r="r" b="b"/>
            <a:pathLst>
              <a:path w="8136904" h="3672408">
                <a:moveTo>
                  <a:pt x="612080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060327"/>
                </a:lnTo>
                <a:cubicBezTo>
                  <a:pt x="8136904" y="3398369"/>
                  <a:pt x="7862866" y="3672407"/>
                  <a:pt x="7524824" y="3672407"/>
                </a:cubicBezTo>
                <a:lnTo>
                  <a:pt x="0" y="3672408"/>
                </a:lnTo>
                <a:lnTo>
                  <a:pt x="0" y="3672408"/>
                </a:lnTo>
                <a:lnTo>
                  <a:pt x="0" y="612080"/>
                </a:lnTo>
                <a:cubicBezTo>
                  <a:pt x="0" y="274038"/>
                  <a:pt x="274038" y="0"/>
                  <a:pt x="61208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2059200" y="1751040"/>
            <a:ext cx="4833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以作者和老王的交往为线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写作者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夫老王的交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映了车夫老王艰难困苦的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及其善良厚道的品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含蓄地提出了关怀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者的问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体现了作者平等的观念和人道主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对角圆角矩形 5"/>
          <p:cNvSpPr/>
          <p:nvPr/>
        </p:nvSpPr>
        <p:spPr>
          <a:xfrm>
            <a:off x="468360" y="1773360"/>
            <a:ext cx="8136000" cy="3600360"/>
          </a:xfrm>
          <a:custGeom>
            <a:avLst/>
            <a:gdLst/>
            <a:ahLst/>
            <a:rect l="l" t="t" r="r" b="b"/>
            <a:pathLst>
              <a:path w="8136904" h="3600400">
                <a:moveTo>
                  <a:pt x="600078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000321"/>
                </a:lnTo>
                <a:cubicBezTo>
                  <a:pt x="8136904" y="3331735"/>
                  <a:pt x="7868240" y="3600399"/>
                  <a:pt x="7536826" y="3600399"/>
                </a:cubicBezTo>
                <a:lnTo>
                  <a:pt x="0" y="3600400"/>
                </a:lnTo>
                <a:lnTo>
                  <a:pt x="0" y="3600400"/>
                </a:lnTo>
                <a:lnTo>
                  <a:pt x="0" y="600078"/>
                </a:lnTo>
                <a:cubicBezTo>
                  <a:pt x="0" y="268664"/>
                  <a:pt x="268664" y="0"/>
                  <a:pt x="60007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2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40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